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052F-8A4E-488C-980B-CE09A2A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35E5-5C37-4256-A387-C6A9777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7271-C332-4BCA-81FA-74EE380E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A1DD-2DC4-42FB-BF0E-D8A2000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E15B-EFC9-40C3-9B76-9927214C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B2C9-4C83-49A6-B7D2-B2E2597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ED42-1EAB-4960-B235-59974E7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CE72-E8E7-43F5-9AF1-99562161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427A-3B48-4204-BA8D-436BBF56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7105-0252-4017-9D8C-D726AB7F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B1A3-8E65-4D41-88DA-7DDDE01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AAA4-E822-4EE4-A7A4-A0C893D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4C9E-CEFF-4924-A77D-9061277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D061-7055-4881-9237-BE18186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7567-1D37-44C7-A7DF-D56630B3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7C5E-D974-4742-BC2C-8E126A0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585B-967F-4DF8-9A4D-9E3698A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7D59-D04C-4361-964B-449D2E3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6C2F-17ED-4C3B-930C-A6616DE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8DAD-04B5-4E72-B18C-6BEA9025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BBDA-89DA-4F3D-85F6-6999BA46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804-17C4-49F3-A243-9AF00F8C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B98-3D70-4D2D-8671-604C9BA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951-8543-4353-B11C-AE09F47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B3A-95F7-4502-84CA-835411E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EF5-C4B9-446A-893C-87B7B8ED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E29-DEA3-4982-AF77-72EF3998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BA0-4FF5-487F-96C5-CC42F8C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4BE-07DF-4B68-B022-1BC9F52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965-6304-4918-B1EF-59DE407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8AC-32BD-4C09-B982-1A811CE7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37A-425D-4CB8-97C2-1D19EFA0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8CD-4276-4B9F-8B30-851C4A27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920-BC0D-4570-B848-10F5CF2C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8794-5C36-46E0-99D8-8989085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0D6-D0A8-4481-BD54-22AFC644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286B-6B34-4581-8649-01D7FCC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ED26-9566-46BA-A2B1-73661DE1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6BE3-305D-49D8-A6EB-6A780F0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85A-E523-4BD5-A58C-4A8FC9B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541-EFD5-4C30-B878-8D01D29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25F1-CB0E-4816-AA11-1093B81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01B-3861-4E5C-99AC-9E58E26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7D6-C599-4621-9606-9782D219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9A6F-25CF-416F-A877-B0F1915D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9D36-0F77-4DF3-965E-2026DFA1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B5C9-30D0-4CF1-9FA5-601B2BBD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042A-49E4-473F-B905-B3C5ED1C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880-0E7C-4627-90D4-AC99BD594BD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6C5-E7FC-4427-B783-0019B46C16A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F042-302D-408E-AE63-BEBDF814D15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86EB-E920-450B-AC64-06D9E702696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63360" y="1822320"/>
            <a:ext cx="910620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 on soil quality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63360" y="4508640"/>
            <a:ext cx="8972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4B3-0803-43A8-AE3A-33AF35AD4B0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4"/>
          <p:cNvSpPr/>
          <p:nvPr/>
        </p:nvSpPr>
        <p:spPr>
          <a:xfrm>
            <a:off x="8582040" y="60480"/>
            <a:ext cx="5032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6EF-078C-466F-81A9-24CF93986E8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-15840" y="63183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Steps for soil quality indexing (Andrews et al.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326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8675640" y="0"/>
            <a:ext cx="46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46F-997E-4C16-B28B-CFB2F51DF01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2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F36D-8ECB-4FEB-9CAA-41CC5184B78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F8F-F404-4096-9794-7BA5D068257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1777-B7AF-4D22-BA59-12E535AB48D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E3E-7AE2-4EB9-AEA6-93E0E407CA6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5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ECB5-5BF6-44B5-8741-250748A8015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1822320"/>
            <a:ext cx="91440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chem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soil biolog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reduced soil phys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CBB7-1EF3-46C8-A247-66D3C514F8E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55440" y="1989000"/>
            <a:ext cx="446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30240" y="285264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-scale crop-livestock farmers may corral sheep and goat as a means of soil fertility restoration with 7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eep and goat for minimal damage on phys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C3AF-7E7A-475B-B9DF-019C7FEF1B2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114-B079-45DF-B081-3D3EE2CB565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-scale crop-livestock system predominate in sub-Sahara Africa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 mono-gastr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9FC-9303-4F7F-AB39-53CE1DB6FEF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23880" y="936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08000" y="141300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-14400" y="1989000"/>
            <a:ext cx="9099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in this system restore soil fertility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ing manure from stall and spreading o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animals on fallow fields between cropping s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turns both manure and urine to the soil and results in greater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 data on stocking density of livestock corralling on soil properties and soil quality index is limited in West Africa especially Gh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05960" y="7142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EA6B-6E3B-46A7-BB5D-2BA532ADA26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2627280" y="97308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0" y="1700280"/>
            <a:ext cx="9131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effect of stocking density of sheep and goat corralling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quali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1B1-5341-46CF-B2B7-F1BD50DA5A01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0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1B08-E977-44EF-B6A9-05C8E736675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D6D-BBF0-4349-9586-EA1E2BC1DBE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17640" y="1441440"/>
            <a:ext cx="91263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BD with 8 re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 (SDSG) at 0, 70,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niger et al., 20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rralling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omposition of sheep (55%) and goat(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ive weight of 27±2.0 for sheep and 24±1.5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p and goat were corralled from 19:00-06:00 hours GMT with no feed and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1A31-3CDB-4944-A70D-9EF553043F6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70B-DA0B-41A2-8F64-BA275C0F6D0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7093080" y="-100080"/>
            <a:ext cx="205092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50:08Z</dcterms:modified>
  <cp:revision>993</cp:revision>
  <dc:subject/>
  <dc:title>Diapositiva 1</dc:title>
</cp:coreProperties>
</file>